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856-AE49-4923-B1F9-828F01ED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C13-69B6-4AC0-99E3-049C07E4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9D5-1F1E-4F83-BE47-44DBAE52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713-F34A-4E5A-B07A-053F5120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35A6-2F1D-4896-A543-70EAA9AC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B203-6C92-4D93-B992-59CE6158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05A4-563B-45A9-812C-A8706AC7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7819-CF05-4784-9F91-575CDD63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9C14-938E-4027-A6C1-2B122527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1EC9-1C9F-4BC3-8514-9C3686DC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2536-01C6-49A6-8704-B7AC5254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6C9-C963-496A-B7AC-0E7A5A2A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D183-8770-40E1-8AF1-4E452C91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98CA-B0E8-4E3E-A377-A75F3A90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DA03-5E39-4EE9-8B6B-BC06A118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C97B-B91F-408A-AF22-FD58F8CD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07B3-879E-4CD6-B3EA-AE62DB00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5D9-A028-4BBE-A5B7-84C24B8C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1C9-AAC0-4C3C-BE15-7B438824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DDF-7139-47FE-8531-6987F599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6EC-6EF2-405D-AA4F-BD5B6B32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320-9822-4A23-B93B-AABBDC7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0D1-7AA0-4F70-A954-CAF8895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055-E919-422A-85EA-ED2D80A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106E-D22F-46EF-84AA-AC10F5A7B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F9FF-8053-4065-B923-F5C53EE1A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easurement I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48320" y="2057400"/>
            <a:ext cx="4038480" cy="4038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n inc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quart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is about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n inc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id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B_OFI041" descr=""/>
          <p:cNvPicPr/>
          <p:nvPr/>
        </p:nvPicPr>
        <p:blipFill>
          <a:blip r:embed="rId2"/>
          <a:stretch/>
        </p:blipFill>
        <p:spPr>
          <a:xfrm>
            <a:off x="55627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562720" y="4038480"/>
            <a:ext cx="213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6920" y="40384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 inc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48320" y="1752480"/>
            <a:ext cx="4038480" cy="4800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foot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5740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ength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clipboard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1" name="B_OEQ386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05520" y="3657600"/>
            <a:ext cx="2133360" cy="213372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373392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 foo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48320" y="1752480"/>
            <a:ext cx="4038480" cy="4800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yard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51460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idth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doo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H_HIN007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657520" cy="476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19920" y="4572000"/>
            <a:ext cx="129528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8720" y="380988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1 yar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62520" y="2286000"/>
            <a:ext cx="5181480" cy="411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mil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our time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round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rack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SPOFT246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3564000" cy="1743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16200000">
            <a:off x="5484960" y="2285640"/>
            <a:ext cx="2058840" cy="3887640"/>
          </a:xfrm>
          <a:custGeom>
            <a:avLst/>
            <a:gdLst>
              <a:gd name="textAreaLeft" fmla="*/ 100440 w 2058840"/>
              <a:gd name="textAreaRight" fmla="*/ 1958400 w 2058840"/>
              <a:gd name="textAreaTop" fmla="*/ 100440 h 3887640"/>
              <a:gd name="textAreaBottom" fmla="*/ 3787200 h 3887640"/>
            </a:gdLst>
            <a:ahLst/>
            <a:rect l="textAreaLeft" t="textAreaTop" r="textAreaRight" b="textAreaBottom"/>
            <a:pathLst>
              <a:path w="21600" h="40783">
                <a:moveTo>
                  <a:pt x="3600" y="0"/>
                </a:moveTo>
                <a:arcTo wR="3600" hR="3600" stAng="16200000" swAng="-5400000"/>
                <a:lnTo>
                  <a:pt x="0" y="37183"/>
                </a:lnTo>
                <a:arcTo wR="3600" hR="3600" stAng="10800000" swAng="-5400000"/>
                <a:lnTo>
                  <a:pt x="18000" y="40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144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ritten by Moncia Yuskait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part from Broderbund ClickArt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25,000 Deluxe Image Pa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part from Corel Gallery by Corel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rp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248520" y="3048120"/>
            <a:ext cx="2133360" cy="2209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illi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TOLHN087" descr=""/>
          <p:cNvPicPr/>
          <p:nvPr/>
        </p:nvPicPr>
        <p:blipFill>
          <a:blip r:embed="rId2"/>
          <a:stretch/>
        </p:blipFill>
        <p:spPr>
          <a:xfrm>
            <a:off x="6858000" y="3276720"/>
            <a:ext cx="938160" cy="1676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32004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a pi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791320" y="1752480"/>
            <a:ext cx="2971800" cy="4496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centi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146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the to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your fing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PPLPR003" descr=""/>
          <p:cNvPicPr/>
          <p:nvPr/>
        </p:nvPicPr>
        <p:blipFill>
          <a:blip r:embed="rId2"/>
          <a:stretch/>
        </p:blipFill>
        <p:spPr>
          <a:xfrm>
            <a:off x="6556320" y="2286000"/>
            <a:ext cx="1590840" cy="335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477120" y="2209680"/>
            <a:ext cx="4572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2860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one &amp; 1/2 door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H_HIN017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167616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H_HIN017" descr=""/>
          <p:cNvPicPr/>
          <p:nvPr/>
        </p:nvPicPr>
        <p:blipFill>
          <a:blip r:embed="rId3"/>
          <a:stretch/>
        </p:blipFill>
        <p:spPr>
          <a:xfrm>
            <a:off x="6858000" y="2057400"/>
            <a:ext cx="167652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0080" y="38862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7160" y="312408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me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kilo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little ov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1/2 of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mil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6960" y="297180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kilome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4419720"/>
            <a:ext cx="8384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362320"/>
            <a:ext cx="3581280" cy="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2362320"/>
            <a:ext cx="0" cy="342900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9080" y="175248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mo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4191120"/>
            <a:ext cx="15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l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236232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029200" y="1371600"/>
            <a:ext cx="373392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illili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drop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iquid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H_HKT188" descr=""/>
          <p:cNvPicPr/>
          <p:nvPr/>
        </p:nvPicPr>
        <p:blipFill>
          <a:blip r:embed="rId2"/>
          <a:stretch/>
        </p:blipFill>
        <p:spPr>
          <a:xfrm>
            <a:off x="6705720" y="2209680"/>
            <a:ext cx="387360" cy="2590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6857280" y="4724280"/>
            <a:ext cx="152280" cy="304920"/>
          </a:xfrm>
          <a:prstGeom prst="ellipse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029200" y="1219320"/>
            <a:ext cx="3733920" cy="487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li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Half of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arge po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bottl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1" name="FODBV108" descr=""/>
          <p:cNvPicPr/>
          <p:nvPr/>
        </p:nvPicPr>
        <p:blipFill>
          <a:blip r:embed="rId2"/>
          <a:stretch/>
        </p:blipFill>
        <p:spPr>
          <a:xfrm>
            <a:off x="6172200" y="1295280"/>
            <a:ext cx="1481040" cy="4483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72200" y="380988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0384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29200" y="1600200"/>
            <a:ext cx="373392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heavy is a gra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36232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paper cli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eigh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1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gram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B_OEQ236" descr=""/>
          <p:cNvPicPr/>
          <p:nvPr/>
        </p:nvPicPr>
        <p:blipFill>
          <a:blip r:embed="rId2"/>
          <a:stretch/>
        </p:blipFill>
        <p:spPr>
          <a:xfrm>
            <a:off x="5562720" y="2590920"/>
            <a:ext cx="24890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19720" y="1676520"/>
            <a:ext cx="4419360" cy="487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heavy is a kilogra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kitte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eigh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1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kilogram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1" name="ANMPT092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984760" cy="369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Monica/Bob Yuskaitis</cp:lastModifiedBy>
  <dcterms:modified xsi:type="dcterms:W3CDTF">2000-02-06T15:05:40Z</dcterms:modified>
  <cp:revision>9</cp:revision>
  <dc:subject/>
  <dc:title>Math Flash</dc:title>
</cp:coreProperties>
</file>